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41173"/>
        <c:axId val="6585842"/>
      </c:barChart>
      <c:catAx>
        <c:axId val="69941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5842"/>
        <c:crosses val="autoZero"/>
        <c:auto val="1"/>
        <c:lblAlgn val="ctr"/>
        <c:lblOffset val="100"/>
        <c:noMultiLvlLbl val="0"/>
      </c:catAx>
      <c:valAx>
        <c:axId val="6585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41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B33-2853-4555-A54D-B09AA202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108-C784-4093-B5BB-E770C752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C0F-1521-4F0B-8278-D6228A34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452-B1C7-428D-998A-FEC4CACE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5F4-5605-4CC7-BCA2-48883B8B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FAF-716C-4D61-93A6-CF84AE8D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8D9-368D-47AF-9932-C8D4F9E3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E1D-0B32-440C-A129-4459EFFB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788-5934-4058-9EF0-E422DC74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D04-AD9E-458F-BBA4-84A513F5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CFA-81F7-4695-BA2B-D8D12D77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25D-22DB-4E46-9FF2-EF8476F0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A3A2E-4028-4284-BEEB-949A3079F6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