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1805524"/>
        <c:axId val="999101"/>
      </c:barChart>
      <c:catAx>
        <c:axId val="9180552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9101"/>
        <c:crosses val="autoZero"/>
        <c:auto val="1"/>
        <c:lblAlgn val="ctr"/>
        <c:lblOffset val="100"/>
        <c:noMultiLvlLbl val="0"/>
      </c:catAx>
      <c:valAx>
        <c:axId val="99910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180552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7988C-35F6-47BB-BEF5-994BB69C5A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84E79-6286-4607-8495-7E327DF8E6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7FD7-7265-4D4F-9111-D20DFD8979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4B0F6-3379-4A70-B3B3-72A4A2B19E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D9F1A-E5DF-4652-A32A-AF594E21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7F348-F54D-4765-A8DA-E59886BA6A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CC73A-0762-4FE7-B384-E8A54ED2A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A8C39-4D40-483B-9D64-F136D8D1C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F350C8-B0C3-4A49-849E-18DC95C7A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B3269-9562-408E-9848-653FCB7CC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53FFE-F1A9-4DF5-991E-EEEF542A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B2B6-E273-4E67-95EC-162C715557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925640-54A6-4DF8-8A48-A5C25C60D9D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