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60398"/>
        <c:axId val="88557359"/>
      </c:barChart>
      <c:catAx>
        <c:axId val="16960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57359"/>
        <c:crosses val="autoZero"/>
        <c:auto val="1"/>
        <c:lblAlgn val="ctr"/>
        <c:lblOffset val="100"/>
        <c:noMultiLvlLbl val="0"/>
      </c:catAx>
      <c:valAx>
        <c:axId val="88557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60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F50-EC23-493F-AC71-8E96AB94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9D2-0A08-4DA0-89FC-D2225463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52F-D007-4ADA-ADAE-9B196FD7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576-5388-41FC-BEF4-6CA04ECB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2BF-F27E-4A23-BB44-3B18C695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5E6-4C9F-4286-A533-3935E265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61D-5C1F-4F2B-8F39-682F8C90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689-231F-4D48-9FBB-2BF12594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ABA-1C37-44A4-B6D3-4792208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793-4F57-4C7A-B19C-8D510F8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70F-4729-4BA9-8333-221DB98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B3B-F5AA-4411-B5C7-772C74BC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4940-EB80-4C6D-BC6B-9C29C6B5B7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