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744573"/>
        <c:axId val="4522798"/>
      </c:barChart>
      <c:catAx>
        <c:axId val="217445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22798"/>
        <c:crosses val="autoZero"/>
        <c:auto val="1"/>
        <c:lblAlgn val="ctr"/>
        <c:lblOffset val="100"/>
        <c:noMultiLvlLbl val="0"/>
      </c:catAx>
      <c:valAx>
        <c:axId val="45227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7445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1C55-A6C8-46A9-96A3-668FA139B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94D1-A96B-45F6-93A1-4AB3D8634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C7B7-BF6F-4B09-9FA2-B7942281E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451D-FBDD-4DE5-941F-0EBBF763B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FA8D-6FCA-4E45-90BF-9A9A6B3E1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1420-68AC-4682-AFE5-C9F0587BB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7BF7-61CA-4FBF-AF71-F7082FF4B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3E37-8AC7-40F7-92DF-B751FA23F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B87D-CFB1-44EF-8DEF-9FE4F287C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43C1-9940-492F-B24E-CA9E886D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168F-921B-41D7-A744-7FD78482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BA74-4488-42A2-8905-B951C166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F4A54A-8D0D-49C9-A2B0-98B2544AA2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