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77866"/>
        <c:axId val="83253915"/>
      </c:barChart>
      <c:catAx>
        <c:axId val="70177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3915"/>
        <c:crosses val="autoZero"/>
        <c:auto val="1"/>
        <c:lblAlgn val="ctr"/>
        <c:lblOffset val="100"/>
        <c:noMultiLvlLbl val="0"/>
      </c:catAx>
      <c:valAx>
        <c:axId val="83253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77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CE8-346F-480B-96C7-830A3BC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970-9FC2-48A7-BB1D-43A3BEE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DA5-026B-49AC-948E-56DF0C16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4CA-E732-4314-8B32-6AE7FA1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1D0-1474-4C04-9EC5-7527A3A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879-47E5-4020-A3A0-886FD9D4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906-41EB-47DA-8DC8-9A033C21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738-093B-446F-9B5F-09B9B9DF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410-52D6-48D6-9B35-03B82628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411-1A9C-46F5-B2D2-5DC01DB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DD6-19F4-4E70-91EA-171B226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A33-40C0-4293-B76E-A811AC39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0796A-6A34-482E-A607-219641D20C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